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explode.wav" ContentType="audio/x-wav"/>
  <Override PartName="/ppt/media/arrow.wav" ContentType="audio/x-wav"/>
  <Override PartName="/ppt/media/push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wind.wav" ContentType="audio/x-wav"/>
  <Override PartName="/ppt/media/chimes.wav" ContentType="audio/x-wav"/>
  <Override PartName="/ppt/media/image4.png" ContentType="image/png"/>
  <Override PartName="/ppt/media/voltage.wav" ContentType="audio/x-wav"/>
  <Override PartName="/ppt/media/image8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0CE-942A-4493-8197-AD26A106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C9B-2C20-4B7E-AC3F-79C0D01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E65-4C15-45A4-8228-BF0F1FC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3AB-A414-4BC1-B7A5-8670D127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75D-E946-4F8B-9384-86D9797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983-A44C-48F8-A597-7627A34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804-A4D2-4C09-B829-7F4BED6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0C51-0228-4D48-BD4E-43B8EC8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872C-24B0-40C8-9981-CEB372A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B616-3FAA-4F38-9DA2-39374731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8FB8-5A34-4C2A-9AB2-0E17376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42A-BCD9-440B-954D-0C4E380C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B65-EBDC-4B45-A0CA-2FA41452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6C6C-09FA-4906-BF80-FD1AE12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B2F5-9053-402A-B290-D5F7074C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325F-3893-4447-88B4-111DFFC1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097A-F612-4392-A0E4-67F7716C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0DD74-0CDD-444A-B10B-93441B5F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A160D-B084-4A2B-A92A-3471F4E3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E73DB-754B-4554-BA20-8879832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2F97C-8A0E-45EC-87CE-B986CD0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BA138-C9D3-43BB-9C08-C542850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E01-C2B2-43CA-BF74-39D685B2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9C2B0-9A2F-4988-B98B-61CD3E25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602B2-0616-4229-BAA3-99E0803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DCB50-63A0-48E5-B6F4-DE21E1AD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D4BFA-79E4-4BAF-BA79-E30E3FD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2E6DF-F245-4F71-9BDA-59E8E6D8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65DC4-DFDF-4D32-ABB8-56A56398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F49A9-E90D-4485-BB2B-6B181C0B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C498-4401-41F6-B6B6-00A81011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B588-F361-4891-913C-9FFE083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5D28-84A9-4998-B829-7F4948AC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0C3-8D84-48C2-A623-82B4137E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64AB-E8A2-4E0D-BF78-EAE90AE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FA2F-B595-4D34-905E-30CD58A2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1955-F944-4959-A4C3-55D5B142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EE4D-4403-416E-A4AD-5C7948F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9ECB3-D3B1-4DA6-8CD8-E3AC08A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A433-7235-46A7-8CE8-B5D3E7D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DD7A-5EC5-42BC-94EE-0141811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01C7-DFE2-4D31-A986-02DA2F91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BC36-A880-4493-9828-73333D96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8E0E1-C8E2-4BCB-A2E3-81E233B7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CCE-5EC2-4367-82FA-678DCB46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A11D4-3375-4F4E-A3FD-0BE55D9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832AF-2085-4AF5-B770-0AB567DA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76466-4215-47B4-BD6F-B0F2C79C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EF5BC-AC28-479D-B196-2E5432A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ACC40-DB36-4146-A710-77C54A2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44D13-524A-4103-B21A-D660829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2ECD6-F24E-4B82-9F21-DC9CE03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C7B23-4380-48BB-BA07-635E445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C21F24-85F9-4CB0-95E2-BB82CA1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B68FE-CD86-4D2C-8FFD-767DEE07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9B2-27E8-4558-ACFC-B5EA4769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9A4BA-8AA4-40B3-82B0-3941C71A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E3735-48FC-4B68-B97C-88BBD9C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EF9462-00D4-4EBD-B821-EB3163CE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CB83D-BC58-4933-94A0-D8DAA4D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56DC1-A883-4400-9653-37A0EDC6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3D1BE-1C6D-429E-A5FC-3F7C4F50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800B8-2A6B-47A1-9563-24D8E98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D8B71-AC26-42C2-AE6B-238AD14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7CF87-A0E0-41D1-B87B-C212BF5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4EFB9-6D5A-4160-AA9F-0ACE809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246-57C2-497C-80A7-BBA40EC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10FFB-8440-4D83-8CBC-633DCFD6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76DC8-8E6F-4570-B2FF-47E0D105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EC501-0AF1-494B-ABB4-ECF7D2C6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0BB69-25EC-44C9-B347-D76D12A5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55AC6-C467-49C0-9CB9-7F0B0955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390D8-2276-48FF-AF5C-35B9E105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CAAB2-6CE6-492A-BAA1-1D98B4EB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288DE-3B13-4180-809E-FAA8CC8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B7F49-7ED1-44BF-8043-AADE72CA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E9AF5-1802-411E-BA0C-093941B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698-3179-4201-A0BE-07BADF2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3C22C-5F13-4E65-879E-9930D235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E2153-5C45-4178-A9CC-8AE9DBC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19B10-9254-4C5D-82A8-99F36BA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B0F17-D8E6-4F05-A73A-ACFAB388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AFCE7-2BD9-456D-8D9C-1627C43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D4C-AEF6-46F5-A415-4DEA36F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5CBC-3807-471A-ABBA-DF7815398652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659B-39C5-45F0-BD35-10DF791A4D59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332-6251-4240-99A0-381E7E9191E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rostokąt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B6F2-D099-4B6F-B9B8-7D69941587E2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B0D-EF93-4C46-8360-DB78E1F05B41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rostokąt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B091-31DF-4E56-B779-83358B357A65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rostokąt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4CA-F574-404A-8D3F-1FCC6615A9E9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357200"/>
            <a:ext cx="61722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Comic Sans MS"/>
              </a:rPr>
              <a:t>KONSERWOWANIE    I PRZECHOWYWANIE ŻYWNOŚCI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mic Sans MS"/>
              </a:rPr>
              <a:t>JAK SIĘ ROBI ZAPASY ?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Żywność dłużej nadaje się do zjedzenia dzięki różnym metodom konserwacji. Warto je znać przygotowując domowe przetwory np. dżemy, kompoty lub mrożonki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Obraz 3" descr="jam.JPG"/>
          <p:cNvPicPr/>
          <p:nvPr/>
        </p:nvPicPr>
        <p:blipFill>
          <a:blip r:embed="rId1"/>
          <a:stretch/>
        </p:blipFill>
        <p:spPr>
          <a:xfrm>
            <a:off x="571680" y="3857760"/>
            <a:ext cx="20509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Obraz 4" descr="Kompot.jpg"/>
          <p:cNvPicPr/>
          <p:nvPr/>
        </p:nvPicPr>
        <p:blipFill>
          <a:blip r:embed="rId2"/>
          <a:stretch/>
        </p:blipFill>
        <p:spPr>
          <a:xfrm>
            <a:off x="3000240" y="3857760"/>
            <a:ext cx="20005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6" name="Obraz 5" descr="Mrożonki.jpg"/>
          <p:cNvPicPr/>
          <p:nvPr/>
        </p:nvPicPr>
        <p:blipFill>
          <a:blip r:embed="rId3"/>
          <a:stretch/>
        </p:blipFill>
        <p:spPr>
          <a:xfrm>
            <a:off x="5429160" y="3857760"/>
            <a:ext cx="20005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5000">
    <p:dissolve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135684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asteryzacja polega na ogrzewaniu materiału do temperatur nie przekraczających 100°C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terylizacja to ogrzanie produktu do temperatury powyżej 100°C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uszenie polega na usunięciu wody w produkcie przez jej wyparowani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Mrożenie</a:t>
            </a:r>
            <a:r>
              <a:rPr b="1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jest to jedna z metod utrwalania żywności, gdzie doprowadza się produkt do temperatury poniżej -12°C; mogą to być produkty gotowe lub półprodukt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Obraz 3" descr="pas.jpg"/>
          <p:cNvPicPr/>
          <p:nvPr/>
        </p:nvPicPr>
        <p:blipFill>
          <a:blip r:embed="rId1"/>
          <a:stretch/>
        </p:blipFill>
        <p:spPr>
          <a:xfrm>
            <a:off x="884160" y="4511520"/>
            <a:ext cx="1596960" cy="1895760"/>
          </a:xfrm>
          <a:prstGeom prst="rect">
            <a:avLst/>
          </a:prstGeom>
          <a:ln w="0">
            <a:noFill/>
          </a:ln>
        </p:spPr>
      </p:pic>
      <p:pic>
        <p:nvPicPr>
          <p:cNvPr id="360" name="Obraz 4" descr="suszenie.jpg"/>
          <p:cNvPicPr/>
          <p:nvPr/>
        </p:nvPicPr>
        <p:blipFill>
          <a:blip r:embed="rId2"/>
          <a:stretch/>
        </p:blipFill>
        <p:spPr>
          <a:xfrm>
            <a:off x="3114720" y="4761000"/>
            <a:ext cx="1658880" cy="2852640"/>
          </a:xfrm>
          <a:prstGeom prst="rect">
            <a:avLst/>
          </a:prstGeom>
          <a:ln w="0">
            <a:noFill/>
          </a:ln>
        </p:spPr>
      </p:pic>
      <p:pic>
        <p:nvPicPr>
          <p:cNvPr id="361" name="Obraz 5" descr="mro.jpg"/>
          <p:cNvPicPr/>
          <p:nvPr/>
        </p:nvPicPr>
        <p:blipFill>
          <a:blip r:embed="rId3"/>
          <a:stretch/>
        </p:blipFill>
        <p:spPr>
          <a:xfrm>
            <a:off x="5499000" y="4645080"/>
            <a:ext cx="2133720" cy="16333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4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Kiszenie -  wykorzystanie działania bakterii fermentacji mlekow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olenie to dodanie soli kuchennej do produkt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łodzenie- dodanie do produktu cukr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Marynowanie – konserwowanie produktów spożywczych za pomocą octu. </a:t>
            </a: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Obraz 3" descr="jagf.jpg"/>
          <p:cNvPicPr/>
          <p:nvPr/>
        </p:nvPicPr>
        <p:blipFill>
          <a:blip r:embed="rId1"/>
          <a:stretch/>
        </p:blipFill>
        <p:spPr>
          <a:xfrm>
            <a:off x="407880" y="4286160"/>
            <a:ext cx="2560680" cy="3797280"/>
          </a:xfrm>
          <a:prstGeom prst="rect">
            <a:avLst/>
          </a:prstGeom>
          <a:ln w="0">
            <a:noFill/>
          </a:ln>
        </p:spPr>
      </p:pic>
      <p:pic>
        <p:nvPicPr>
          <p:cNvPr id="365" name="Obraz 4" descr="sol.jpg"/>
          <p:cNvPicPr/>
          <p:nvPr/>
        </p:nvPicPr>
        <p:blipFill>
          <a:blip r:embed="rId2"/>
          <a:stretch/>
        </p:blipFill>
        <p:spPr>
          <a:xfrm>
            <a:off x="3214800" y="4572000"/>
            <a:ext cx="203364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6" name="Obraz 5" descr="kiszenie.jpg"/>
          <p:cNvPicPr/>
          <p:nvPr/>
        </p:nvPicPr>
        <p:blipFill>
          <a:blip r:embed="rId3"/>
          <a:stretch/>
        </p:blipFill>
        <p:spPr>
          <a:xfrm>
            <a:off x="5668920" y="4511520"/>
            <a:ext cx="199404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4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PRZECHOWYWANIE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W lodówce w każdym miejscu jest różna temperatura. Uwzględniając to, możesz przechowywać żywność w optymalnych warunkach. Warto również wykorzystywać plastikowe pojemniki, pergamin, folię aluminiową i woreczki foliowe do przechowywania żywności. Zapewniają higienę i ułatwiają przechowywani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LODÓWKA – GDZIE CO POŁOŻYĆ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Górna półka – temperatura 8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Przechowujemy tam dżemy, mleko, jogurty („dobre” bakterie rozwijają się w wyższej temperaturze). Na niższych półkach zepsują się szybciej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Środkowa półka – temperatura 4–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To miejsce dla produktów o krótkiej trwałości: twarogi, masło, śmietana, pokrojona wędlina. To jest również właściwe miejsce na szczelnie zakryte naczynia z zimnymi potrawami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a półka – temperatura 2º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Jest najbardziej zimnym miejscem, doskonałym dla świeżego mięsa i ryb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e szuflady – temperatura około 10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Miejsce na warzywa i owoce. Panuje tu spora wilgotność (jak w piwnicy). Sałatę i szczypiorek można przechowywać tu nawet kilka dni. Można tu wkładać żółte sery w szczelnych pojemnikach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Boczne półki – temperatura 10–1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Idealne dla chrzanu, musztardy, soków, keczupu, oleju roślinnego, jaje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Symbol zastępczy zawartości 4" descr="2479054lod.jpg"/>
          <p:cNvPicPr/>
          <p:nvPr/>
        </p:nvPicPr>
        <p:blipFill>
          <a:blip r:embed="rId1"/>
          <a:stretch/>
        </p:blipFill>
        <p:spPr>
          <a:xfrm>
            <a:off x="4572000" y="1484280"/>
            <a:ext cx="4159080" cy="49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75f6d"/>
                </a:solidFill>
                <a:latin typeface="Comic Sans MS"/>
              </a:rPr>
              <a:t>ŹRÓDŁA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Jastrzębowski, Sławomir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Encyklopedia Zdrowych Posiłków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Murator: Warszawa,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Łabecki, Lech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Zeszyt Ćwiczeń. Technika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owa Era: Warszawa, 2007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www.rossnet.pl/Artykul/Sztuka-przechowywania-zywnios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 thruBlk="true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12:54:04Z</dcterms:created>
  <dc:creator>Dorota</dc:creator>
  <dc:description/>
  <dc:language>en-US</dc:language>
  <cp:lastModifiedBy>Dorota</cp:lastModifiedBy>
  <dcterms:modified xsi:type="dcterms:W3CDTF">2013-08-19T07:56:35Z</dcterms:modified>
  <cp:revision>16</cp:revision>
  <dc:subject/>
  <dc:title>Konserwowanie i przechowywanie zywności</dc:title>
</cp:coreProperties>
</file>